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6EA5-FC98-4161-A4F5-71C2B588B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068C-C67A-4B8C-BE40-55B202A8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F56F-FAD9-4BDB-AD82-3F1EC5C01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AF76-AAE2-4E04-8EA3-668DA8F35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9FD3-F551-4F41-946D-62524EF9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76AE-EBFD-45B4-A89E-D56CA83E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6278-2C87-4D1D-B9AA-3A8A5792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A282-F643-4550-B6E9-F4AF2359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5DCB-DE04-4F92-BB12-77CAFE85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D9BD-7937-47E7-B052-9B19D96A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44CD-9BCA-4710-A853-3B64B525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8635-8BC0-4506-95CB-D1DBA1E4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FCCA-286F-4275-BDF0-B1884F37AE1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seki\Desktop\101MSDCF\DSC018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Users\seki\Desktop\101MSDCF\DSC0187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7T03:56:18Z</dcterms:created>
  <dc:creator>seki</dc:creator>
  <dc:description/>
  <dc:language>en-US</dc:language>
  <cp:lastModifiedBy>seki</cp:lastModifiedBy>
  <dcterms:modified xsi:type="dcterms:W3CDTF">2012-10-07T03:58:47Z</dcterms:modified>
  <cp:revision>1</cp:revision>
  <dc:subject/>
  <dc:title>スライド 1</dc:title>
</cp:coreProperties>
</file>